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8D-3DEA-4A2E-950B-B7172E68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EC0-695B-410D-9CFC-79E6217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5A0-017A-44A2-8893-8B073FBF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53D-32E3-426F-B9CB-48B6D3E5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567-BF63-4FE3-827D-FD326201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F47-F5A7-426E-9ACD-A440995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56D-1D35-41CD-AA9C-493C6CF2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2D5-AE0D-482C-9C13-B49C3F3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856-27B7-4C2D-A54B-831A9F7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2A3-DD97-4EB1-85C2-5617069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AE8-8751-4792-8E66-DAF2993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833-42B7-4D3F-9F43-9D16EA2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62D-5F0F-43B8-9E32-E2C810E0C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960" y="12952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000" y="19810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1200" y="129528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981080"/>
            <a:ext cx="119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llbil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080" y="1295280"/>
            <a:ext cx="148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81080"/>
            <a:ext cx="7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1240" y="990720"/>
            <a:ext cx="148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760" y="1981080"/>
            <a:ext cx="7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1440" y="99072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d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20280" y="198108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95360" y="12193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7240" y="191916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320" y="1066680"/>
          <a:ext cx="8915400" cy="2793960"/>
        </p:xfrm>
        <a:graphic>
          <a:graphicData uri="http://schemas.openxmlformats.org/drawingml/2006/table">
            <a:tbl>
              <a:tblPr/>
              <a:tblGrid>
                <a:gridCol w="216000"/>
                <a:gridCol w="945720"/>
                <a:gridCol w="1377720"/>
                <a:gridCol w="1594080"/>
                <a:gridCol w="1746000"/>
                <a:gridCol w="1746000"/>
                <a:gridCol w="128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1:52:51Z</dcterms:created>
  <dc:creator>Dekalb County School</dc:creator>
  <dc:description/>
  <dc:language>en-US</dc:language>
  <cp:lastModifiedBy>Dekalb County School</cp:lastModifiedBy>
  <dcterms:modified xsi:type="dcterms:W3CDTF">2012-04-13T02:35:37Z</dcterms:modified>
  <cp:revision>4</cp:revision>
  <dc:subject/>
  <dc:title>Place Value</dc:title>
</cp:coreProperties>
</file>